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ADB-DAEE-4ADB-B0CE-5ADD4CBB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B38-C88C-4CAB-B5BC-BB737B9A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BDE-C916-4B9B-94DB-1F962C80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4E0-33C6-4FD2-843E-AE2BD56D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6BA-E4AE-44D4-92AE-891A7CC0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081-EF5F-4948-9CCE-BD2063E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BA2-2585-4B39-9A19-00A7D3C4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132-BED7-4DB3-9C66-B1CE1A6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558-7060-4D30-B647-CB9857D8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D7C-7C93-4A1F-BC7F-CA81B80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D74-56D5-4DB5-919E-BE96318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FB9-EA84-45FB-8148-6FD986B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B6B9-6481-4F29-BDAD-EE618763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uter Netz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 </cp:lastModifiedBy>
  <dcterms:modified xsi:type="dcterms:W3CDTF">2007-01-27T20:24:40Z</dcterms:modified>
  <cp:revision>5</cp:revision>
  <dc:subject/>
  <dc:title>Folie 1</dc:title>
</cp:coreProperties>
</file>