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BD0-DEFB-4C02-A184-F6631800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23C-E027-49D5-9415-5F361AD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885-C7A0-44BD-99D3-B19658B3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AFD-C8F1-4C08-B19D-97405BD2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E60-30AF-41C8-BAF8-9F095418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DEE-B8F3-4F18-A342-00840F18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0C4-2DED-410E-B8C5-137F1173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672-DC10-4AAB-B77F-8DDCA27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2D3-E57C-473E-8052-FCE1162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FC3-FD09-43BB-A084-BA1A057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A73-CE75-413A-A4F2-0F005E7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5C3-669C-4B23-A263-C5760FC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29B1-1222-41F9-A586-1EB4D4C5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37Z</dcterms:modified>
  <cp:revision>3</cp:revision>
  <dc:subject/>
  <dc:title>Folie 1</dc:title>
</cp:coreProperties>
</file>