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9C6-5413-4028-8961-9BF07BA6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415-A6DE-4D32-9DA6-1AFB0565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A26A-1A48-46E1-8889-581D8AC1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4E53-233B-4754-BAE1-E22093C1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A80E-A7CC-4BA3-BC8C-09826A7B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D690-70F3-4489-A865-00BBF2EC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BA12-831F-4EF2-8BA2-884BD48F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1A17-0E37-43E9-B5E7-E15037F3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B0AF-6F88-4889-B255-93BA4404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86CD-F3E2-4F1B-8442-2056185D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7F38-EB41-48F6-AA78-5B73D174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490B-840A-4F12-92C5-50D5D278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1CA1-C573-499B-B0BC-748AFE2CA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12:10:57Z</dcterms:created>
  <dc:creator>Österreichische Computer Gesellschaft</dc:creator>
  <dc:description/>
  <dc:language>en-US</dc:language>
  <cp:lastModifiedBy>Österreichische Computer Gesellschaft</cp:lastModifiedBy>
  <dcterms:modified xsi:type="dcterms:W3CDTF">2004-07-18T15:07:59Z</dcterms:modified>
  <cp:revision>4</cp:revision>
  <dc:subject/>
  <dc:title>Folie 1</dc:title>
</cp:coreProperties>
</file>