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38E7-B9BE-4186-9D8F-821F9C33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EF46-049F-4A02-8044-1089BD15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FB3C-0F21-43C6-8F5F-C54F6337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47C7-51F3-46D4-BDCA-BFAAE39F4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80D0-A4EA-4D9C-8875-86B5E34B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BF15-41E9-4B83-9941-C87A7D84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751E-C758-48A3-839F-5BD29DFD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5A43-701A-4488-AD39-F7E3EE57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2E03-4B41-4690-8CB8-11D5CBEA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50EA-EED2-4190-8C64-148BD324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0277-E1A7-41EA-B903-A3979987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1D1A-2D0C-473F-B636-67841236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6B5E-41A7-4B1D-8359-5DCFBAD2F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12:10:57Z</dcterms:created>
  <dc:creator>Österreichische Computer Gesellschaft</dc:creator>
  <dc:description/>
  <dc:language>en-US</dc:language>
  <cp:lastModifiedBy>Österreichische Computer Gesellschaft</cp:lastModifiedBy>
  <dcterms:modified xsi:type="dcterms:W3CDTF">2004-07-18T15:07:50Z</dcterms:modified>
  <cp:revision>3</cp:revision>
  <dc:subject/>
  <dc:title>Folie 1</dc:title>
</cp:coreProperties>
</file>