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5BD0-8088-4B45-A792-71D98846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9C60-A670-4A50-A11D-3309C0E6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13A0-4562-4410-B057-27E282FD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FEDA-5335-44B7-85E1-35ED9E429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6B6C-2832-4203-ABB7-E2C4172B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1B74-EE98-4DA8-B49D-95754F8D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BF84-EDE6-4C00-93ED-79B80A17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1DCC-945A-4801-8154-E39AAE8A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A8FD-A732-4420-8880-D6011A38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1F16-5A90-4354-8E6E-DD4AE314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EF48-DFE7-4528-9F4C-396B9B3D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07EC-9FF5-494C-AE6B-C23E1EA4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926E-615A-4C0A-850A-4E3C6EB1F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12:10:57Z</dcterms:created>
  <dc:creator>Österreichische Computer Gesellschaft</dc:creator>
  <dc:description/>
  <dc:language>en-US</dc:language>
  <cp:lastModifiedBy>Österreichische Computer Gesellschaft</cp:lastModifiedBy>
  <dcterms:modified xsi:type="dcterms:W3CDTF">2004-07-18T15:07:59Z</dcterms:modified>
  <cp:revision>4</cp:revision>
  <dc:subject/>
  <dc:title>Folie 1</dc:title>
</cp:coreProperties>
</file>