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E2E-E026-453C-8C2A-080C47FD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3F2-D756-4D25-859E-4323BD2D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6CB-EFA1-4F50-A05E-93E10195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B03-FB10-45A2-AF9B-088A403C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16C-E0A1-4F44-8B99-BC01AD2A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AE2-F33F-4FCC-8541-7E7D4AD7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EA0-69F7-41CD-8162-167EFA7B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892-3AE1-42DB-8135-81325DBB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50B-8D8B-4201-8E22-A5E543E2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0F4-FE65-4492-9BEF-07DBE2C8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0C7-B6F1-4223-A960-5AD40D4D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D0A-8528-40F7-BD96-D8F3AAC4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8269-858C-40FA-B81B-A96FA63F1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mputer Netz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 </cp:lastModifiedBy>
  <dcterms:modified xsi:type="dcterms:W3CDTF">2007-01-27T20:24:40Z</dcterms:modified>
  <cp:revision>5</cp:revision>
  <dc:subject/>
  <dc:title>Folie 1</dc:title>
</cp:coreProperties>
</file>