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AB1-5D85-407C-A9FA-2D5F6191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A75-5AC5-4F01-9F0B-1D60B3B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5FC-F6A3-452C-9A66-222F48A8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BBD-0FC8-4E24-85A0-988B6BDB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522-C6AF-4AFF-8E41-BCB31D3D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B90-3FB1-4915-9320-91F4254A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FD2-5E03-47FE-9BC4-2E4733F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AC9-3C94-4112-B4EE-8606AAA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89A-06CC-4532-A202-D23A9F08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649-3A3F-4D44-B593-349B080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5EC-709F-4A3E-8F62-AECC4F4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89E-ED70-4E19-9418-CE8F7EE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DD16-6CCF-4416-A31C-20B39837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0Z</dcterms:modified>
  <cp:revision>3</cp:revision>
  <dc:subject/>
  <dc:title>Folie 1</dc:title>
</cp:coreProperties>
</file>