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8E9-2248-41A7-BBA6-5D85FFFD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887-F5F1-42DF-8260-476A409E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DE7-C09E-4C17-8EC1-418C4C8B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2F9C-C4B1-4E9B-AC38-8B440DB9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9BF-2D74-4505-9443-4068F3F5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37A-394E-4BD2-8160-2F3E981F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44F3-64BD-468F-B33C-C599D8F1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46F-44A3-482B-A566-DAECB0E4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69B-5F14-4C03-B435-CE9808C8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77D-F32D-40CD-BCE1-07F75573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7DA7-4D26-4473-91B9-DA7272A9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EEB-58ED-4E6B-9DB6-1D6150AA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CC06-2D9D-4BBE-84FD-428172785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07:59Z</dcterms:modified>
  <cp:revision>4</cp:revision>
  <dc:subject/>
  <dc:title>Folie 1</dc:title>
</cp:coreProperties>
</file>