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3662-7E9E-41A5-90B4-86803D15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53C2-66A4-4A64-AEF3-6276CE12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DDB2-98F6-4FD2-90E6-ACABF717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B27E-91D8-435F-9FB1-6FF36DB9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E59F-888A-4082-8C52-0841E4A2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6DDE-9F5F-4932-BB51-B73C9D32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3A9A-D4D8-4140-95E7-28D43D30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B090-A26B-4DE8-AC16-45C6608D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3F6B-4E4C-4AF0-A367-0C5D44B6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673D-7BFE-4ECC-B5AE-71B49A6F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3F8D-C9A5-4AEA-B26A-1EDB94F2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AE79-9A4B-4A52-8A6B-63DFA53E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A166-3070-4FC9-BB16-CC54A8363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12:10:57Z</dcterms:created>
  <dc:creator>Österreichische Computer Gesellschaft</dc:creator>
  <dc:description/>
  <dc:language>en-US</dc:language>
  <cp:lastModifiedBy>Österreichische Computer Gesellschaft</cp:lastModifiedBy>
  <dcterms:modified xsi:type="dcterms:W3CDTF">2004-07-18T15:07:37Z</dcterms:modified>
  <cp:revision>3</cp:revision>
  <dc:subject/>
  <dc:title>Folie 1</dc:title>
</cp:coreProperties>
</file>