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AD6-0AE4-4AAB-B8A9-62710530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190-CACB-40F2-B52C-39D764FF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9F4-9985-4CAA-8DFE-BBE4DFC3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D55-A931-4493-BBF4-E59E5934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D79-04B5-4877-AF7C-FD091D84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7ED1-70AE-47C6-9025-FA10AE64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A51-6A18-4BDB-82CE-5E6FD190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4F3-AA32-4B39-865B-9758833C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7897-7220-421B-8D82-9ED37638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5D27-E57A-4F7E-8418-066388BB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D1E7-BFAF-458C-9A78-C44BC0C6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3CF2-25D6-4D3F-BD5F-3643DE1D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6A42-B75A-4FED-B5EB-1648B9F4D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mputer Netz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 </cp:lastModifiedBy>
  <dcterms:modified xsi:type="dcterms:W3CDTF">2007-01-27T20:24:40Z</dcterms:modified>
  <cp:revision>5</cp:revision>
  <dc:subject/>
  <dc:title>Folie 1</dc:title>
</cp:coreProperties>
</file>