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561-A149-442B-BC90-034C3697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BF1-0187-4B54-95BE-26733C8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4E7-5BCC-411D-8413-EE6FB919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8D6-58EA-4C5F-9B94-6F17310C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9E1-E98F-4995-AE85-C86EEC4D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45C-366C-42A9-A405-2A82594E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169-EF18-44A2-9000-B644AA32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04B-D290-4CF1-BD0E-A0DDB6BD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200-F691-472B-A415-82847756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536-1B63-49A7-B9F3-5982436B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179-F4D5-4DED-8D6D-98E8E64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9AA-0BE9-46DC-8F0B-1EF3F2C2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B3A0-8387-4CB5-9080-029CC59D9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0Z</dcterms:modified>
  <cp:revision>3</cp:revision>
  <dc:subject/>
  <dc:title>Folie 1</dc:title>
</cp:coreProperties>
</file>